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465-46F9-46E5-9EA4-302B33BE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A71-047A-427D-B658-2C036468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1CC-02AB-4161-9CC1-DA41F465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713-A92F-40E8-9F62-8F06565A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24C-8B32-455B-91A8-CBFE8E9D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22E-22E5-41B8-90AD-1168C706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671-073A-4592-B2D1-55BC2502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A29-B7FC-4CC8-A4D4-756C4171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4DC-F3E5-43D1-A435-4BB05FCA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923-5F3F-4C62-A980-D51B898C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4FD-D055-4F6B-9628-1458FD47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880-F89F-4F8C-8FA5-FAD3E6C3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774E-F639-474F-A342-29EDB16C545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219320"/>
            <a:ext cx="7773840" cy="1440"/>
          </a:xfrm>
          <a:custGeom>
            <a:avLst/>
            <a:gdLst/>
            <a:ahLst/>
            <a:rect l="l" t="t" r="r" b="b"/>
            <a:pathLst>
              <a:path w="4897" h="1">
                <a:moveTo>
                  <a:pt x="0" y="0"/>
                </a:moveTo>
                <a:lnTo>
                  <a:pt x="4896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14600" y="1067040"/>
            <a:ext cx="40384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ugestaltung Tarifrecht öffentlicher Die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8001000" y="5943600"/>
          <a:ext cx="54612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5943600"/>
                    <a:ext cx="5461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rifvertrag zur Überleitung der Beschäftigten im öffentlichen Diens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rag Kurt Mart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handlungskommission 10. Juni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8DD-A7D4-40E6-B82E-53DCC02B1FE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 algn="ctr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nderbezogene Anteile -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Ergebnis Tarifrun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inderzuschläge für alle bis zum 31.12.2005 geborenen Kinder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Ergebnis Redaktionsverhandlung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ynamisierte Zah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estlegung unschädlicher Unterbrech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ahlung für übernommen Auszubildende, SchülerInnen, PraktikantI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bfindung ab vollendeten 16. Lebensjahr mögl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87A-E68B-4305-A88D-225517C72DB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4479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gütungsgruppenzulag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Forderung ver.d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ergütungsgruppenzulagen werden auch zukünftig gezahlt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Forderung Arbeitgeb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eine Zahlungen meh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ließen in das Vergleichsentgelt e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ahlung nur für EG 3, 5, 6, 8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- unter bestimmten Voraussetzung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464-6AEB-49ED-86EF-C4032A42CB4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gütungsgruppenzulage -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rgebn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itzstandzulage für alle die derzeit Zulage erhal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hne vorausgehenden Fallgruppenaufstieg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hlung erfolgt zum individuellen Zeitpunkt wenn Hälfte der Zeit erfül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 Anschluss an Fallgruppenaufstie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lgruppenaufstieg noch nicht erfolgt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ächsthöhere EG zum individuellen Zeitpunkt wenn Hälfte der Zeit erfüllt - Keine Zulage meh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lgruppenaufstieg bereits erfolgt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ulage zum individuellen Zeitpunkt wenn Hälfte der Gesamtzeit erfül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401-6CE0-497B-B9D6-9AE969B1C2B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ückfallkla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ver.di-Forder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ückfallklausel für den Fall, dass keine neue Entgeltordnung bis zum 31.12.2007 verhandelt 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sgefallene Bewährungsaufstiege werden für alle ab 1.10.2007 nachgeholt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Arbeitgeber-Fo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leichwertigkeit der Gegenfo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lternativ: 60 % Jahressonderzahlung für alle,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gfall Strukturausgleich oder Verschiebung der Tarifrunde um 2 Jahre (Ab 1.1.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3CC-602E-4931-B747-D0ECE88AE49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ückfallklausel -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Ergebni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erzicht auf Rückfallklau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B4E-9F6B-4313-83C7-F209353AA4F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ene 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ückfallebene Bereitschaftsz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malzahlung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ch nicht endverhandelte Themen aus B4 und 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r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tszeitkorr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tere Einspa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ausgleiche KR - wird heute verhand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689-3F83-4A33-8F02-854DE535B64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s Vorgeh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Redaktionstermine vereinba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4.06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aktion TV öD - allgemeiner Abschnit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Arbeits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.06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te Lenkungsgruppe - Klär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fener Pun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.06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V-N Abstimmungsproz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TK-Term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3. - 15.09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ternativ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5. - 07.09. 2005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bhängig von Bundestags-Wah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311-D163-42DF-BCA7-7B17F8DE13A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tzung der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erhandlungskommission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- 10. Juni 2005 - Berlin -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47920" y="4038480"/>
            <a:ext cx="6400800" cy="13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BA2-0374-4710-ABEE-6D15A7C0136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Überblick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VöD-Ord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bisher vorliegenden Texte zum TV-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aktionsverhandlungen TVöD haben am 07.06. 2005 begon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iederung TVöD unter Punkt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änzung nach Abschluss der Redaktionsverhandlungen notwend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elle Überlei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V-Überlei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ukturausgleiche, us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cheinung: ca. 3 Woc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40F-D5FC-442C-835D-9D9236E146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rifrunde 2005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igung über neues Tarifre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malzahl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eijährige Überlei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Stufensteigerung ab 01.10.2007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nahme: ArbeiterIn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D7F-F344-4981-BE17-A8379753E2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zen über Inhalt der Vereinbarung v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Februar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uche der Arbeitgeber zusätzliche Einsparungen zu realisier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8D1-2B6E-4988-AF9B-D0F54A66F0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</a:t>
            </a:r>
            <a:br>
              <a:rPr sz="20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torium - Bewährungsaufstie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 3, 5, 6, 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ährungsaufstiege sind nicht eingearbeit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öhergruppierung erfolgt zum individuellen Zeitpunkt, wenn Bewährung zur Hälfte erfül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 2, 9 - 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ährungsaufstiege sind eingearbeit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leib in den jeweiligen E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Bewährungsaufstieg bei Überleitung noch nicht vollzo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teilsausgleichsregelung erforderlich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6A6-0AD0-4772-BC5F-0DD00403A4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torium 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osition Arbeitgeb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atorium Bestandteil der Gesamteinig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: Lösung nur mit Kompen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KA: Keine Änderung wege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zu hoher Kost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ND: „Paket-Angebot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ffnung Morator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ücknahme der „Stufe-3-Regelung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446-5438-403B-BF19-64BB5A5884F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torium I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scheidung Lenkungsgruppe am 31.5. / 1.6.2005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nahme des Paket-Angebo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forderung an VKA: Gleiche Regel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nahme durch VKA am späten Abend des 1.6.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4F9-B2C0-4BBD-A7F3-2A55813B3A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nderbezogene Anteil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ver.di-Forde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ynamisierte Zah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alle bis zum 31.12.2005 geborenen K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ientierung an Anspruchsvoraussetzungen Kindergeldzah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460-A979-427D-8165-FBEF29A739E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nderbezogene Anteile -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rbeitgeber-Forde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dynamisierte Zah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für ununterbrochene Zahlung Kinderg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alle übergeleiteten Beschäftigten und deren Kinder die bis zum 31.12.2005 gebor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findungsmöglich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6C1-A802-4183-A183-5321340EA72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5:27:28Z</dcterms:created>
  <dc:creator>Niko Stumpfögger Ressort 1</dc:creator>
  <dc:description/>
  <dc:language>en-US</dc:language>
  <cp:lastModifiedBy>deraabe</cp:lastModifiedBy>
  <cp:lastPrinted>2005-06-09T15:17:27Z</cp:lastPrinted>
  <dcterms:modified xsi:type="dcterms:W3CDTF">2005-06-09T15:51:26Z</dcterms:modified>
  <cp:revision>189</cp:revision>
  <dc:subject/>
  <dc:title>Wozu der Kongress?</dc:title>
</cp:coreProperties>
</file>